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572-4C95-428D-AE97-8835A91D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744-E3E5-49E9-BDDD-B307EA4D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2DE-01D1-4E49-9BCD-8F18E09A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FC2-CB46-4081-8457-415E9FD8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0B43-8B95-435F-83D6-F7493022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04F1-3CC0-4023-B7DC-550D41D1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509-4BDA-4A45-BE8D-2A419E1D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94A6-B1C1-42DF-8160-6805691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DD9E-8274-419E-9221-1D76B73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6FAC-56F7-4026-BD05-624814C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A800-BC50-4588-A1B6-CAA9F337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63-BA04-460A-A0AD-DE7FA82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798A-7CAB-4EB9-8B66-70EF039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AB0-5173-4F04-A4D6-1E0D964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450-CD96-4E90-8F14-2E862D7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642-8B5A-4886-A3B0-CBDC5D3F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0C1D-0801-4D15-A582-C3DB66EB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886-EBA3-439D-8E8A-A6EB2B3E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BDB-5255-49F2-8F4A-FC8B680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CFC-D0DC-4327-98CB-E7F9A73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75B-9ACE-406A-90A0-AD3E3B2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1C4-9AC7-465C-86E8-288C4C4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8AC-3921-4DBD-8782-99D01E0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030-9CF7-4220-BD32-7F3EF25F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25C-A7AE-48D8-96FD-B94990AC9B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EF7F-834E-438C-AB3B-DA5D72DED8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uick Call the Fire Department! She shouted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ick, call the fire department!” She shout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reewrit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bout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Vocabulary Sheet with a partner you haven’t worked with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ch mov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short qui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8:43Z</dcterms:created>
  <dc:creator>rebecca</dc:creator>
  <dc:description/>
  <dc:language>en-US</dc:language>
  <cp:lastModifiedBy>rebecca</cp:lastModifiedBy>
  <dcterms:modified xsi:type="dcterms:W3CDTF">2009-03-03T21:04:23Z</dcterms:modified>
  <cp:revision>2</cp:revision>
  <dc:subject/>
  <dc:title>DOL</dc:title>
</cp:coreProperties>
</file>